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C30-DD68-44DE-A9BF-C45AC1D2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00E-285F-413D-8C83-C74A6DBC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DCE-6356-4446-A6AD-E07471C1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081-D190-42A7-B54C-AAF11BA9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BFC-0AC6-4C36-8CCA-940BE1AF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4D0-C561-4246-A2E5-E71B704F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DC2-DA75-4103-92E0-35C18B1A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BD7-6127-4827-B87B-03A4B354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3AB-F9F9-4777-8D64-837188D6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081-1328-4BB6-9084-101EC52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267-0057-4FEF-A9B1-92B4BBE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B56-BCCF-4556-A758-5CC352C4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DA31-B117-40E2-A9F3-802912322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Chiller"/>
              </a:rPr>
              <a:t>Liberia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hiller"/>
              </a:rPr>
              <a:t>By: Brooke Godfre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Liberi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ia’s population is 3,195,931 as of July 2007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ia declared 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July 16,1847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30760" y="2933640"/>
            <a:ext cx="3513240" cy="39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bout the Presiden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President of Liberia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llen Johnson-Sirlea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he was born in Monrovia!!! Otherwise known as the capitol of Lib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2933640" cy="31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Impor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xpor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 Fac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ore Of My 3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3:12:28Z</dcterms:created>
  <dc:creator>brookegodfrey</dc:creator>
  <dc:description/>
  <dc:language>en-US</dc:language>
  <cp:lastModifiedBy>LCS_user</cp:lastModifiedBy>
  <dcterms:modified xsi:type="dcterms:W3CDTF">2008-11-07T15:53:06Z</dcterms:modified>
  <cp:revision>8</cp:revision>
  <dc:subject/>
  <dc:title>Liberia</dc:title>
</cp:coreProperties>
</file>